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DDBC-420A-407D-A7EE-A0A47449C69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n 1998 el Perú y Chile suscribieron el Acuerdo de Complementación Económica N° 3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1995 e</a:t>
            </a: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 Perú y México firmaron el Acuerdo de Complementación Económica N°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Perú se adhirió al ATPA (Ley de Preferencias Arancelarias Andinas) en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lo abrió las puertas de EE.UU. a alrededor de 5,500 productos, que no incluían a los textiles y las confec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Dichas preferencias vencieron en diciembre del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ATPDEA (Ley de Promoción Comercial Andina y Erradicación de la Droga) las renov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Se firmó en agosto del 2002 y entró en vigencia en octubre de ese mismo añ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xtiende las preferencias a las confecciones, entre otros produc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6A63-5593-43B3-9BED-DE407CCB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9CCE-E947-461D-82FF-EE20F79A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5915-8FB3-4A47-B5E1-C7F451D2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EA0E-631C-4A1A-8DB1-2485C158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60FC-5DE7-4F3B-BACD-A65B6D36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735D-DF40-4FA7-B478-FFFABD30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1E01-188C-4E30-A679-ABAC743E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1B0D-1109-451F-BE29-C4DAA64E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ECAB-E277-4F66-BE86-BE04A803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A8D5-E6FF-4B7B-86A2-5375E891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5718-E01A-48B6-9DBF-1F93D6C9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CFC1-5C95-4C37-87CE-CA13C7B3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A0DF-2A07-4FC6-BA03-ED4D433F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8E0C-C1D0-4110-8322-1689F65D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664B-2128-4C39-A89F-404BE20D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089F-A823-4CFE-9A32-37944AC0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1635-AC30-49EE-B95C-B5F4C67A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5C43-A6AE-45EF-9C15-5D041707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5D90-4961-43D8-BCC5-A07203BF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0E3B-8BAB-4E6E-B211-9C1833DE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CA4E-7D45-43CD-A53A-D2149F64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2ECA-9DF2-4020-9401-C09D4630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D933-B823-42C9-85E2-ECE6E26F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45E-7169-479D-8D8E-6514D6F0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BFB6-FB27-4006-94AA-844C8A59B0F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EA9C-93A7-4580-8BAF-9D61B4A99D7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560" y="620280"/>
            <a:ext cx="720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Conquistando mercados: oportunidades para</a:t>
            </a:r>
            <a:br>
              <a:rPr sz="4000"/>
            </a:b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la agroexportació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Chlimper Ack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4957" r="0" b="0"/>
          <a:stretch/>
        </p:blipFill>
        <p:spPr>
          <a:xfrm>
            <a:off x="609480" y="1798560"/>
            <a:ext cx="763452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4390" r="0" b="0"/>
          <a:stretch/>
        </p:blipFill>
        <p:spPr>
          <a:xfrm>
            <a:off x="380880" y="1660680"/>
            <a:ext cx="79362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5150" r="0" b="0"/>
          <a:stretch/>
        </p:blipFill>
        <p:spPr>
          <a:xfrm>
            <a:off x="685800" y="1844640"/>
            <a:ext cx="760896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4037" r="0" b="0"/>
          <a:stretch/>
        </p:blipFill>
        <p:spPr>
          <a:xfrm>
            <a:off x="533520" y="1668600"/>
            <a:ext cx="80071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1224000"/>
            <a:ext cx="78469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0643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560" y="620280"/>
            <a:ext cx="720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Conquistando mercados: oportunidades para</a:t>
            </a:r>
            <a:br>
              <a:rPr sz="4000"/>
            </a:b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la agroexportació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Chlimper Ack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Desarrollo de mercado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evos merc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evos nich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33370" b="11189"/>
          <a:stretch/>
        </p:blipFill>
        <p:spPr>
          <a:xfrm>
            <a:off x="611280" y="2421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18888" t="8382" r="35419" b="28609"/>
          <a:stretch/>
        </p:blipFill>
        <p:spPr>
          <a:xfrm>
            <a:off x="4788000" y="2421000"/>
            <a:ext cx="2089080" cy="2160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12804" t="10676" r="26419" b="8232"/>
          <a:stretch/>
        </p:blipFill>
        <p:spPr>
          <a:xfrm>
            <a:off x="2268360" y="2924280"/>
            <a:ext cx="2014560" cy="20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rcRect l="0" t="0" r="28971" b="5296"/>
          <a:stretch/>
        </p:blipFill>
        <p:spPr>
          <a:xfrm>
            <a:off x="1187280" y="407664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6516720" y="2997360"/>
            <a:ext cx="2087640" cy="202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rcRect l="0" t="6711" r="0" b="0"/>
          <a:stretch/>
        </p:blipFill>
        <p:spPr>
          <a:xfrm>
            <a:off x="5796000" y="4076640"/>
            <a:ext cx="20890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café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981000"/>
            <a:ext cx="586728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0" t="5169" r="0" b="0"/>
          <a:stretch/>
        </p:blipFill>
        <p:spPr>
          <a:xfrm>
            <a:off x="304920" y="1576440"/>
            <a:ext cx="7772400" cy="5067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café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360360"/>
            <a:ext cx="793116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8000"/>
                </a:solidFill>
                <a:latin typeface="Arial Black"/>
              </a:rPr>
              <a:t>Nuevos mercados: espárragos frescos o refrigerados</a:t>
            </a: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4920" y="1335240"/>
            <a:ext cx="70866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5640" y="582480"/>
            <a:ext cx="86770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espárragos frescos o refrigerado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90720" y="1641600"/>
            <a:ext cx="70102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uva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1068480"/>
            <a:ext cx="64008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uva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79250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 Black"/>
              </a:rPr>
              <a:t>Poca cama, poco plato, </a:t>
            </a:r>
            <a:br>
              <a:rPr sz="3500"/>
            </a:br>
            <a:r>
              <a:rPr b="0" lang="es-ES_tradnl" sz="3500" spc="-1" strike="noStrike">
                <a:solidFill>
                  <a:srgbClr val="000000"/>
                </a:solidFill>
                <a:latin typeface="Arial Black"/>
              </a:rPr>
              <a:t>mucho zapato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5:26:53Z</dcterms:created>
  <dc:creator>jore</dc:creator>
  <dc:description/>
  <dc:language>en-US</dc:language>
  <cp:lastModifiedBy>jore</cp:lastModifiedBy>
  <dcterms:modified xsi:type="dcterms:W3CDTF">2005-04-29T20:17:19Z</dcterms:modified>
  <cp:revision>24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961498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pts</vt:lpwstr>
  </property>
  <property fmtid="{D5CDD505-2E9C-101B-9397-08002B2CF9AE}" pid="6" name="_PreviousAdHocReviewCycleID">
    <vt:r8>-434339299</vt:r8>
  </property>
</Properties>
</file>